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ver-bl" descr="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ENUE TRANSA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-1, page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295280"/>
            <a:ext cx="830592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ransaction 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ugust 12. Received cash from sales, $325.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31488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9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5311800"/>
            <a:ext cx="746784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ransaction 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ugust 12. Sold services on account to Kids Time, $200.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2103480"/>
            <a:ext cx="8229600" cy="2814480"/>
            <a:chOff x="838080" y="2103480"/>
            <a:chExt cx="8229600" cy="2814480"/>
          </a:xfrm>
        </p:grpSpPr>
        <p:pic>
          <p:nvPicPr>
            <p:cNvPr id="47" name="Ch02-01a" descr=""/>
            <p:cNvPicPr/>
            <p:nvPr/>
          </p:nvPicPr>
          <p:blipFill>
            <a:blip r:embed="rId1"/>
            <a:stretch/>
          </p:blipFill>
          <p:spPr>
            <a:xfrm>
              <a:off x="838080" y="2103480"/>
              <a:ext cx="8229600" cy="28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62200" y="382896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96120" y="381960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2120" y="2133720"/>
            <a:ext cx="8305560" cy="2795400"/>
            <a:chOff x="762120" y="2133720"/>
            <a:chExt cx="8305560" cy="2795400"/>
          </a:xfrm>
        </p:grpSpPr>
        <p:grpSp>
          <p:nvGrpSpPr>
            <p:cNvPr id="51" name=""/>
            <p:cNvGrpSpPr/>
            <p:nvPr/>
          </p:nvGrpSpPr>
          <p:grpSpPr>
            <a:xfrm>
              <a:off x="762120" y="2133720"/>
              <a:ext cx="8305560" cy="2795400"/>
              <a:chOff x="762120" y="2133720"/>
              <a:chExt cx="8305560" cy="2795400"/>
            </a:xfrm>
          </p:grpSpPr>
          <p:pic>
            <p:nvPicPr>
              <p:cNvPr id="52" name="Ch02-01b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2133720"/>
                <a:ext cx="8305560" cy="279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Ch02-01b" descr=""/>
              <p:cNvPicPr/>
              <p:nvPr/>
            </p:nvPicPr>
            <p:blipFill>
              <a:blip r:embed="rId2"/>
              <a:srcRect l="23852" t="59981" r="68812" b="32490"/>
              <a:stretch/>
            </p:blipFill>
            <p:spPr>
              <a:xfrm>
                <a:off x="7232760" y="3790800"/>
                <a:ext cx="60948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" name="Ch02-01b" descr=""/>
            <p:cNvPicPr/>
            <p:nvPr/>
          </p:nvPicPr>
          <p:blipFill>
            <a:blip r:embed="rId3"/>
            <a:srcRect l="84406" t="38173" r="4587" b="49236"/>
            <a:stretch/>
          </p:blipFill>
          <p:spPr>
            <a:xfrm>
              <a:off x="7772400" y="3673440"/>
              <a:ext cx="914400" cy="3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FOR EXPEN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295280"/>
            <a:ext cx="83059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ransaction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ugust 12. Paid cash for rent, $250.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31488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809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311800"/>
            <a:ext cx="746784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ransaction 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ugust 12. Paid cash for telephone bill, $45.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-1, page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86064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96120" y="382284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029200"/>
            <a:ext cx="1187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d7f2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0cd7f2"/>
                </a:solidFill>
                <a:latin typeface="Times New Roman"/>
              </a:rPr>
              <a:t>45 (expen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TRANSA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-1, page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14400"/>
            <a:ext cx="830592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ransaction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ugust 12. Received cash on account from Kids Time, $100.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124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7339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311800"/>
            <a:ext cx="746784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ransaction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ugust 12. Paid cash to owner for personal use, $100.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2120" y="1847880"/>
            <a:ext cx="8329320" cy="3090960"/>
            <a:chOff x="762120" y="1847880"/>
            <a:chExt cx="8329320" cy="3090960"/>
          </a:xfrm>
        </p:grpSpPr>
        <p:grpSp>
          <p:nvGrpSpPr>
            <p:cNvPr id="71" name=""/>
            <p:cNvGrpSpPr/>
            <p:nvPr/>
          </p:nvGrpSpPr>
          <p:grpSpPr>
            <a:xfrm>
              <a:off x="762120" y="1847880"/>
              <a:ext cx="8305560" cy="3090960"/>
              <a:chOff x="762120" y="1847880"/>
              <a:chExt cx="8305560" cy="3090960"/>
            </a:xfrm>
          </p:grpSpPr>
          <p:pic>
            <p:nvPicPr>
              <p:cNvPr id="72" name="Ch02-01c" descr=""/>
              <p:cNvPicPr/>
              <p:nvPr/>
            </p:nvPicPr>
            <p:blipFill>
              <a:blip r:embed="rId1"/>
              <a:srcRect l="0" t="0" r="0" b="20077"/>
              <a:stretch/>
            </p:blipFill>
            <p:spPr>
              <a:xfrm>
                <a:off x="762120" y="1847880"/>
                <a:ext cx="8305560" cy="309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3886200" y="363384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7081920" y="3733920"/>
              <a:ext cx="20095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864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d7f2"/>
                  </a:solidFill>
                  <a:latin typeface="Times New Roman"/>
                </a:rPr>
                <a:t>–</a:t>
              </a:r>
              <a:r>
                <a:rPr b="0" lang="en-US" sz="1400" spc="-1" strike="noStrike">
                  <a:solidFill>
                    <a:srgbClr val="0cd7f2"/>
                  </a:solidFill>
                  <a:latin typeface="Times New Roman"/>
                </a:rPr>
                <a:t>100 (withdraw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0600" y="1066680"/>
            <a:ext cx="8794800" cy="37519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ctr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ang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ctr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nd of Transa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er’s Eq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ctr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ctr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ctr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ctr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ctr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ctr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ctr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2400" y="2060640"/>
            <a:ext cx="84103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r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nue (cas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25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nue (on accoun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e (ren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25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e (telephon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45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draw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400" y="4343400"/>
            <a:ext cx="84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ctr" pos="914400"/>
                <a:tab algn="l" pos="2171880"/>
                <a:tab algn="r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change in owner’s equ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3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 OF CHANGES IN OWNER’S EQU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283520" y="4762440"/>
            <a:ext cx="1218960" cy="38160"/>
            <a:chOff x="7283520" y="4762440"/>
            <a:chExt cx="1218960" cy="38160"/>
          </a:xfrm>
        </p:grpSpPr>
        <p:sp>
          <p:nvSpPr>
            <p:cNvPr id="80" name=""/>
            <p:cNvSpPr/>
            <p:nvPr/>
          </p:nvSpPr>
          <p:spPr>
            <a:xfrm>
              <a:off x="7283520" y="47624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83520" y="48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2835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-1, page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1840" y="136440"/>
            <a:ext cx="38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RMS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143000"/>
            <a:ext cx="7620120" cy="365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143000"/>
            <a:ext cx="3581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 on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draw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-1, page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Mary Colleen McLaughlin</cp:lastModifiedBy>
  <dcterms:modified xsi:type="dcterms:W3CDTF">1999-04-20T04:12:08Z</dcterms:modified>
  <cp:revision>12</cp:revision>
  <dc:subject/>
  <dc:title>THE ACCOUNTING EQUATION</dc:title>
</cp:coreProperties>
</file>